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CDE0-24DA-4195-A1CB-CC8589C7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AAB-1879-495E-9D65-AC9FF60F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29629-40FA-458F-84A6-01444F04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959FE-F2A5-4491-8BC4-04133827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BD925-B6E6-4494-AA2E-1B9F06D6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0A11B-1B3E-4B78-9C18-601F9A8B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09DE3-897B-4625-A474-52730D1E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D62A4-81BD-4973-A26C-59CE5CE4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52757-1461-448A-9F8A-9405D73D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EAB7F-CAEE-40E9-A9AB-2D83F2E8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C9950-DC13-40FA-A8D9-AB44F1CC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EEC2A-31F9-4A3A-A4A8-C673A8F9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B06-C25A-427B-9DD0-05B5123D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2B8B2-DA1E-4F82-80F6-423A4623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7CBA2-97C1-4D49-AD2E-6B3B4A54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8F38F-956C-4FA8-9D5C-CC55A180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5C866-E18D-4978-AA24-EE3B0C9F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BE97A-5284-430D-93D7-D2499AF5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82605-9023-410E-939B-25B5A3ED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6CDBA-7CD3-4DBC-9019-D5596E4E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DC779-5654-4A3C-A44A-224468FE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2E0DB-9533-45EB-B2FC-56A3D1D2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9298E-E2E7-4E62-899A-E9A00468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69B-B76B-4FA0-BA0B-DF7D36A8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81D62-5899-4B89-8560-074BFDDC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60087-912A-4B5E-808E-41DBF4B9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7E712-0699-406D-89F9-CA2583B3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B6E6F-193B-4C82-A9C3-5231DC01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CD48E-2119-49FB-881D-AA127A8B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BD2A8-ADAE-436E-B698-53F80F17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0AA2B-7185-4908-A734-634511F6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56DB3-B7B7-4891-A120-8CD9515E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12AC2-26B3-440A-B670-67C4897D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D735C-E5F3-456E-BA7F-FCDD9EF3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76C6-F08F-4A37-99F7-02DE684F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1AE6F-25A1-49CD-B38E-0C78F986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7E3CF-5FEB-455F-BB6C-58101324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15395-5F3D-4CCF-97A2-45E5185B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CE0D7-CF9C-43C7-B9D6-B6973DF5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E8126-C239-44B8-A2F9-30CA640A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D4741-96F9-46D2-903A-73072C11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CB6D0-3CDC-4486-9524-395E4835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9F968-536E-45D5-954E-F3B8B714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AAAB8-E7D2-4B9C-BF02-3C0927E8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C4398-44AA-4F9F-9499-B920F4A2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AFC6-DA25-4A58-9F3A-45FD38F0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8C2CD-9C3A-4B6D-8E71-B603715A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5CC0B-FF38-462D-AD3C-4BB19274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206D0-2696-4CAF-8893-C31E7020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85C82-51BE-4EF2-B100-F671E533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222E6-C422-45C8-B5F7-1A4BD1AF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29E1A-283D-4BD7-87FD-3D7756E8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8121F8-DD28-441F-B40E-A263FDEE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422E6-9FBA-47D2-8F18-FC456A26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F92F9-080A-4E16-9557-F0EC1105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6FB44-DB79-49A1-ABED-41E36DFF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2AF8-92BF-4225-B3D3-A928A488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B0A6C-3993-4C91-B22B-2EEC2A3A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CFC15-7A5F-4C47-B6C0-248389F2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514BD-428F-42A0-8609-43FE6F2F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A7D23-3FE4-4EC0-9374-D2D86FF7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ECF39-C7C7-4C84-A9A8-9B23D565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081BD-EADD-469B-A72A-E418F491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778F3-A5FC-46D4-B0F5-FD08DFD4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876C2-5A1B-492C-B0D6-4F437366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8211F-3273-4932-8DF6-CAB625B2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415E02-D8B7-478E-A665-E31A0EC4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DA8E-D9E5-4545-BA90-5FC5CAC9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A42C0-B0AC-4C26-82B2-721B05BA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03474-918B-46BE-96B1-4CE78C57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35F50-540A-45F1-8AFC-23F51E29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2D38EA-AEA0-44B2-9F83-6CD448DC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94576-8C34-425F-BC7F-E25BEBB9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9D891-83C0-465C-B155-A621FF7E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AA1D5-36D2-46E1-9951-49518F0D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1D7BB-E91B-4726-A389-2C1EDE0F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9307C-E925-4215-988B-BEB98A97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438DCF-B974-4E23-BF9D-2D20FC7C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9D56-F871-4AA5-BFD8-3CC288C6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1F1249-62CF-46A4-B733-72A01AAE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3A7AF-B7B2-4C34-AE0E-1B0DE61F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F93ED1-0181-40B0-BA77-6ED12304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44BC1-E1BC-41F7-9ECB-A867C5D5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6C447-58F8-4788-9030-920822F1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6558D-5EDC-4128-BB22-5C86E2FD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561CF-4509-416A-99D1-3903EEEE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F1B24B-18AE-4222-AEA5-EF7BBA36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9AFE9-16D3-4032-B0C3-381855D5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238E3-7511-444A-8BCF-29328E67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AB2C-50F1-4FE9-A107-AF7BA13F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7991E-0EF3-40FF-9BEC-1DF65073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3B59CE-8BC5-4431-A58F-5ACEA2A8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531ED6-0ECE-4AAA-93E8-852EDE60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89A812-7649-4D21-BED7-D1813F02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23A01-1711-4DCD-AA58-B4426E35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1ED851-A7EB-45EF-A4B6-EBED5785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29438E-4B1D-41D6-ACF7-5D493D62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B72A9D-E4B1-4C73-B693-241CB26C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B2DCD-B533-46E8-8095-491C987D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B32B68-1183-452A-BFB7-0B956128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2352-50AD-4931-92F1-25E9C2C5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6DC19C-B746-452A-AF7D-66742917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9939F8-A6FA-4195-8FDF-DB974086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7B1B4B-4871-47A4-A09F-66B972E7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0A23B8-FEE0-49C5-981E-B693BBC1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A9064E-F973-4A5C-824C-4000A895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395CBA-4024-4598-9230-23387698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DC7C61-BDAA-4F16-9ACE-A808127B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55860-DB90-4AA3-8385-1F8776B0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D8D7CD-4631-4FD7-8B57-8E60ADB4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569EBF-19CB-4505-B62A-24F23EAB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E882-AB70-4BEA-96CA-B2FEFFE9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CD91-1195-44B1-B091-32B06A10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936DC9-11E9-420D-BB28-86F29E48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ACA6E9-3CB8-4509-BFAE-59BF8FA6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3B2DC9-E98D-47E2-8C24-51F03621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62E975-D634-4663-8B7F-200310DB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3B08E4-3A95-4814-9771-38CE4F9E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66FAD4-FE1A-4E44-B542-4A2A5496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F1671A-60AA-4136-8C24-4D24CC94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5D0C5D-D964-4599-A870-89174B1E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96E273-570D-4D28-A0DC-72A4FE2F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C2EE9F-7A7A-4AC9-A109-E8C02E74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BB6E-58E8-4FE3-BCDF-AA014765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327972-7F13-486D-8198-DFECFEEE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EF866B-64B3-409C-B317-DE4A4508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24AFD5-0956-49CE-BC3E-67B93339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27A2EE-B675-4CDC-931B-6AA1EA8C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FEDA66-76C0-493B-92D9-385BA2B0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66772-465E-4CAB-AB10-E4F532C1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FEA19C-7F98-4AC0-AAC9-5E0E0486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98D81B-C231-49C9-9EDA-14D4B591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2C708B-488F-41B1-8701-C1E0CF06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F1F8C0-323E-462E-954D-3E478B1C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04EE-7C8F-4508-B6EB-FF6BA80B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04C027-861C-42DE-8077-96EA3954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A051FC-64B6-48E6-B2AF-784A5CDE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6A0666-1E5E-40E3-AD54-6D2A76DB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74DE11-43B1-45DD-8AF5-3B3176EC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84C29D-13FC-4199-8CCD-3B7B9689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5A6E05-584C-4F1F-8CAB-24D8BC71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8222CC-A64A-466B-ABFB-44E3D2BB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F0617A-3D16-4DBA-8476-C2018E4F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4D4DF7-C7E6-4714-8360-B7A188A2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0BAFEA-883B-44ED-BCC1-16205B14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93EA-EEFC-4684-B4C0-C8CF93EE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49A154-E313-4163-BD93-49BAC212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F7D221-6BA0-4187-8F23-C70C9C10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8499FA-190A-4A74-A8AF-18B9486E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C1E41D-A476-44E4-A25F-701D769E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0F3679-6162-472A-95D5-D0634A91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4C1D2-B7C8-4F09-B45E-DE71FD14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B8AC6F-B5E0-4E6F-8A07-6D6BB481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4226E4-343D-4095-8B03-078627A0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FDE9F4-872E-4B65-9A2E-CD8FFEB9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5DCC88-9884-4240-9DA1-B30B648B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C3AF-C08F-4A70-9F35-F1812F46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CCF22D-8083-409D-A91B-D96AB837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A70B57-ECF4-479A-AB9B-631C680D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8B406D-E03E-4D86-9A95-F0357FE2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2E0C97-6CFB-43AB-BA76-E359958E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6ABBB6-3710-4797-B844-5C61B97A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D5F287-93CD-449B-A354-C2254834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3E1387-C9C1-417D-99B2-CF94CE7C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3C98AD-8B55-4334-8978-5E00A00A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0EC10E-B7FA-4D4A-840A-9A4F06E3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9102C4-C089-4497-95B2-732405C1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FB0B5-0244-4125-8620-C994F8E4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80E908-0EE2-4EAF-BD0C-6FBAB031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3F575B-BE1F-46C0-BC25-10F485E4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CF74FE-CDBA-44BB-9063-76D40EBF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1F2FD7-45BA-42D7-93F7-7085DF68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E7BC27-5632-42BC-85F1-F551B487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BAE8D6-4922-4F18-894D-C850F608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8A2D40-E70A-4AB0-A525-047867EF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A3FE2E-4636-4F75-9A86-F368199E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925E41-D6BB-4302-91CA-48C56722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06FC5F-C130-49FD-870A-AC1D9E37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77C6-AFD5-4126-8840-095FD428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0BD370-5191-46B1-B4E2-AB1BFEE2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E54980-1111-44CF-93E9-D464808C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F2E612-2481-46F4-AD2B-ED7D7EF1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0215F4-4241-4167-B2C6-3673A685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A89BB1-BFD6-4620-AF45-AE37B8B0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21B8E7-98CD-43B6-97AE-BBF59A3F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0C6E25-9B3E-42E9-B19D-E872C316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2D5E84-5244-4A60-A8CC-80993AB4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EB32F9-9148-4B9B-98C5-E4479693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843BD6-2C54-4CC3-A971-03D6AD82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B1C3-130E-481C-B22D-A84C1844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CBC369-776A-4D0D-A376-FF5334C8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AC76FA-E8B7-4410-8F62-6B58039F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8BA78A-D05D-49E3-8F16-C473D6E4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5A5661-25BD-4386-A458-151FED4D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C0F1D7-B1A7-46E7-B6BE-4761BEFA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818D5C-B68D-47DB-8E14-66AE1FD6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F24CB4-2B4C-43B4-8AFA-6AC040C9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5A9084-F0E8-443E-AEE7-AAFBBA2C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BA9FE4-687B-4C2D-988B-0E571EC7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8CD2C7-ACC0-40B9-91B2-7CFE972A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6FC28-9E7C-4CF3-9BE6-845594B5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207EF7-A09F-4A45-9B52-623404B5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DC1F1C-43C2-4B3B-A8E2-0ED906DA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93C739-1887-476A-8B5A-873AE92D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18A253-F99E-440D-8C8D-AAA1A74F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F775F5-485D-4693-A7B6-607A238E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A9ACAB-4BB0-491B-BF1C-D76EBBBD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E9956E-1F93-44C1-89A0-57BCD27A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46E991-74C6-4D4F-A008-D2368C1C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50C4FA-AEE2-4FC8-A1AC-18EB69DE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A82AB-0E51-4F8D-B041-EFD676D8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CB1-2DFB-40BA-89D4-F225D102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37EA8-2615-4C2F-B474-DA0665B5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CA759-0A12-465F-82F4-CA9BA899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B8592-1DCD-49DF-A02C-5B002D6F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D0EBA-EA9A-403F-AB65-FA99F74A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65612-1740-402D-AC26-3B8D9366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062B-6836-44A1-8316-05A0F754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8CB34-267C-4D06-B607-B929BB46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DA41E-70F2-487D-A14F-09EB0F3E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ACA83-773C-4A86-A2E7-6C63D879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9E6B6-569D-49EA-B2E0-34578631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D27-2BD3-4173-A785-B90597B4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DC40E-76D9-4870-8DF4-3F5623E4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E779D-2AEE-476C-8479-2F0EE983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6D15F-E6B8-4E41-AF79-9F77A8DF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A3808-72FC-4B37-8260-3367D9AE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DE278-7B96-45DE-A15E-95F08473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35555-B355-4F9C-BD44-DE76A34E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DBA60-AD76-4B93-B5E6-4057B18C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2EA45-8E79-4B77-8461-D2F3C881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46BB7-D59A-4BE3-A3C6-15867D65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8B34C-DCB6-40E5-A10F-F39A7F24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46D-BB21-42FC-A352-8055FAE9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DBE11-F801-45B3-BF91-8AB766A8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2F981-D591-4054-8B7A-8E006161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42166-17B5-46DB-8DBF-D6C4C47C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53C12-5251-4608-8DA8-5C53AECB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5732A-62E5-4AF1-94F5-AF8959A8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39E3F-F2C3-4973-8365-1579981A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9450A-118B-4FEC-8E68-10D8F4A3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C9181-E650-45D4-AC5B-975D208B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7446C-46BA-4ECC-8D12-78B81A93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27CA0-BE73-47F5-A4D2-6D4C291F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F96-A2B4-4D31-ACE3-0E76535E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33936-690E-4715-8BB1-5D18C7FF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DEA4D-99F6-4C6C-AACE-9A8D9E6A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836AE-1FAA-41C9-8695-ADD60A4A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D3E36-26A0-47DC-8416-F7C69071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1B261-3966-49B1-A44F-EA5C405F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04942-E8C5-47A2-8A4E-BBDF0D92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FA406-35FD-408E-93D8-384AADF4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24D5B-B725-48BB-8501-98506DA5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1E57C-718F-4394-8ED6-9766D2C9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7EAAD-EFFD-477A-A7BE-9697AF52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051-D7B3-4351-B144-D3694804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19B66-9BB3-4EB7-9473-40D240E7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47927-5F66-4BE3-B204-E70B69C3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3BCA5-B755-46CF-BF95-C678DAB4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1E72D-E720-4509-9A7E-BDC5B30E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7F680-4554-4DAB-8C17-7818FBB2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BE694-1C43-4121-A8C1-F4D5BBB9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3E85B-6969-492E-97CE-F8854950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8CE7F-3722-489D-BFBE-C334BAF8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83889-27FF-48A5-8D6A-E8BD431A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3055B-93F5-4836-A795-CAD4E055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33E8-3129-4B60-A03E-BD6B6455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DA322-E797-4753-8E42-639E6228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08038-6E7B-4639-8BD7-7B0A3812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263F9-B5EA-4937-A84B-E0C386E9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F3155-CC78-4E49-A5E3-9C38C8B0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0CD56-9C3B-42FE-823F-802D43E9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16404-AA17-4E7A-BCDB-60735F53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B06E3-BEAE-4B55-9924-E1F428E2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60E8A-4DE8-4C01-9011-2C8C4F88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6D8B9-6849-4E6B-B6D2-DD4DACE4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CED73-BCD5-4AC0-BB23-363F5AC2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10A-1ECA-48FA-BEE4-EBCBADA8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D984E-5E48-4738-9087-C60C306B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6CBBD-E9BB-4B5A-97C8-6BD72BEA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9924C-E747-428C-B67F-EAB609EA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57676-FA4C-4906-8748-6749E28E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ED34A-DD98-4651-8852-FBC4D232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6899C-5968-4785-A047-D8CF160A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32479-DC0F-4BCC-921F-C2E56CAD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8BFE8-FD87-4DCB-9A7D-AB02C519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14116-7ED2-4EAC-9DD0-2D8027F5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6DA44-4E82-4584-A70C-88F3280F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2F4D-0A99-423A-96E9-14069521C85D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8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grpSp>
        <p:nvGrpSpPr>
          <p:cNvPr id="449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450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1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2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453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54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5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6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457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458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9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60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0C7A-63F7-4513-838D-B760DDE921C6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03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80D4-F456-4A81-BB45-C839ECA8382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54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55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EE14-2B48-42FA-A2D3-1FA87DF2E9B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97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Franklin Gothic Medium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F71E-E129-4318-B216-476C11F0188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64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5F3F-85AC-453E-883F-A7B19DC1AA2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0632-1DE0-476F-AD0C-A198C6ED86D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726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9E29-1225-46DD-B4BB-DCC8432B73C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4B88-F3C7-4F4E-9D1C-D6E61F3204C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55BF-B93F-4831-B525-9083600B16D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0f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e3d0f1"/>
              </a:solidFill>
              <a:latin typeface="Lucida San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e3d0f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e3d0f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e3d0f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5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BD4A-8C1E-444D-9393-0535A920B14D}" type="slidenum"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15B3-9495-412B-94CE-3D5A57804A8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grpSp>
        <p:nvGrpSpPr>
          <p:cNvPr id="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0000"/>
            </a:gs>
            <a:gs pos="100000">
              <a:srgbClr val="ff2c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3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6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D262-123C-4F09-9982-3A1624B2E61D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0000"/>
            </a:gs>
            <a:gs pos="100000">
              <a:srgbClr val="ff2c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36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6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6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6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5BAD-EDDE-47B4-BCA3-58D1E49C93D8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6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6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02EC-8BCF-464D-8284-D1575CE3C20D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0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36C9-3E04-45B8-B7F5-862951F81D5E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3E8B-052E-4FF9-8302-0CA1E08BEE93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0f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e3d0f1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e3d0f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e3d0f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e3d0f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6DA1-C719-4203-811F-F63F648FA66C}" type="slidenum"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7EE0-7098-420E-B966-618EDCF454DD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B797-F16F-432A-B67F-20683025E6E6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3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7030a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4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7030a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5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99ff3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7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8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9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0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1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2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3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4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5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6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7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99ff3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99ff3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0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39B3-6649-4727-B517-301CFEF4B76B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CBFB-8247-40F7-A1AA-88ED5A2AD8D3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99ff3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0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1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2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4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5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15EB-B0D5-414C-851A-97887C1D1A47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3F23-760F-4F9F-8F5B-53251155CF26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186760" cy="2090520"/>
          </a:xfrm>
          <a:prstGeom prst="rect">
            <a:avLst/>
          </a:prstGeom>
          <a:ln w="0">
            <a:noFill/>
          </a:ln>
        </p:spPr>
      </p:pic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</p:txBody>
      </p:sp>
      <p:pic>
        <p:nvPicPr>
          <p:cNvPr id="1105" name="Picture 2" descr="http://www.uchsc.edu/vivat/2005/September/images/SOD_91504.jpg"/>
          <p:cNvPicPr/>
          <p:nvPr/>
        </p:nvPicPr>
        <p:blipFill>
          <a:blip r:embed="rId2"/>
          <a:stretch/>
        </p:blipFill>
        <p:spPr>
          <a:xfrm>
            <a:off x="2844720" y="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I learned about Reciprocals.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I never knew how to work Xcel and now I know.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I learned how to do formulas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I was doing really good but then I was </a:t>
            </a: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slaking</a:t>
            </a: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 in my work so I did not get that much done but then after a week I work my best and my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knowledge went back up.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Decision Making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I bought stuff that was really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mportant</a:t>
            </a: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 like a computer so it can help me with my homework and I also bought a apartment so then I have a place to stay while I am going to college.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8:54Z</dcterms:created>
  <dc:creator>ITSUser</dc:creator>
  <dc:description/>
  <dc:language>en-US</dc:language>
  <cp:lastModifiedBy>ITSUser</cp:lastModifiedBy>
  <dcterms:modified xsi:type="dcterms:W3CDTF">2010-02-17T20:48:16Z</dcterms:modified>
  <cp:revision>8</cp:revision>
  <dc:subject/>
  <dc:title>College Planning Reflection</dc:title>
</cp:coreProperties>
</file>